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C29-1155-45E2-B478-37055EAC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7FE-7378-48C1-A272-47C3E94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F06AB-8E19-4DDC-8296-7D03186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CAFB6-59A2-4F4D-98A3-C3B61F5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2E88F-A751-4F16-9455-D10259E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EE6C0-2E04-4AD4-820C-CFFAA64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5324E-B6D9-4038-AD10-F8F6C9C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3839A-4C41-4EF7-BF7B-5596F9A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022F6-3EFE-412B-9862-367A39E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6D34C-3300-402D-AB86-866BC10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56C747-DA6E-40F4-8317-F01D622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09FD1-47B5-4B45-938B-EBBA20C8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1D7-5971-4885-A59A-8509158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58A82D-E11D-4F73-BB08-502E00E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77DAB4-7EA2-4488-A840-0F43F9C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0A46E3-AAD6-4680-AFC4-C6B1CA51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B67113-28DA-48F1-84C3-E01279D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93C85-3071-466D-BD2E-98266491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F3D0A-FC66-42E8-9EEA-3433491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0C993-B736-42CE-8E6D-B43DF3A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F90F7-053C-47C2-9CBE-C961B3A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0B51C-D68B-461F-AFD8-F6BC7302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068582-C49D-4C77-BDEB-2275CC35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EC5-A94F-43B6-939B-49A201B4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8C330-20E5-4813-A8AB-743AD51C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D6157-582D-4600-A030-AE4EF702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BE1640-BB93-4A3B-BF85-CFB122D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C084FF-77F4-4433-9D0D-871BCD3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A0BC82-CA83-47CF-BA19-822C84DE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E27837-7A1C-477F-B2DC-A8B25E5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6BA488-38DA-43B4-BFB0-63379F6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B71B1E-A4D8-43F9-AD44-538B97B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AD1B4D-CFAE-45AF-AF97-CFFECFD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4D33F-0617-4FFB-9F1C-B9C887B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A0D-47FB-4053-AEAA-2FC87C29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B370AD-09A3-4DFD-949D-3FB3A10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DC35C-A67E-4BEB-87E5-E37D8315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1E25D-1C02-493C-8DE4-99B1C7A9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8E4516-2F78-43DC-A3F6-6FB00BAD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831EAB-C836-4A43-8433-0A2BBC4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57DBC1-DB08-4149-B290-7274C28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4228AD-C55E-46CF-BD0D-4E8083A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85D276-70D1-452B-870C-2638CF9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14CC72-F550-467D-911C-9B236DAA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0E9E0C-0A58-48B8-917C-04F461C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C4A9-4DA9-4AFD-A0D1-113E9EC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846A9A-6000-4FAC-9EC7-19E4C2A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0BB9F3-E01B-42AD-83CF-043135F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3D6E25-2BA0-4485-81E9-FE43736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930B8D-B0EA-48BE-A58B-4D442C82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4F5542-80D0-460E-B6AC-F1001780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298D3-54E2-40C4-AD64-D72F2B7F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4BB7D-4247-4ADF-8E8C-46F0E91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7AE8BC-C449-4101-A9EC-EFFED1E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AB2284-328E-4B08-A6EB-41182032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BEA24A-BC30-4610-A1B3-B30F222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5E0-D325-4518-8931-5DF4FFDC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45B16C-76F8-468B-BED0-3C6C03E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9D9483-9256-499B-983B-6EFABE2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E4680E-4E70-4111-82C2-BA5C33DA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15D5FE-2594-49AE-82C7-608A426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678085-2C2D-4161-94D6-FBA82FB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B6AF91-B4D2-4ACC-BC81-608AF83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97D96-2B1A-4B40-BB9C-026C4E55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47D98C-3D5A-4404-A16C-0623CA6E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0B4248-4F8E-4147-A563-12D167E2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2DE5E7-9503-4871-9AE6-5DFC0B76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BADA-68C4-484E-A594-3E29EB64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3896AB-D2F4-4392-9024-DBC25C0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9E2CEE-EBD8-410C-BB4E-8DF0177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AB70F4-BDC0-4AFD-9CD3-F1FD579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F23807-CF6F-4FCA-9A47-36F0019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229910-EE0C-4801-AC8E-14348FE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443587-1704-4CAA-B8B4-66D0E11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97203A-878A-456C-9810-DF7D396B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53D590-3B39-4EFF-80AA-BB86E5E8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AC68DA-E958-49CC-86C5-9CD85501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471165-0328-4EE1-9BDA-4384ADDF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9F0-D53E-4C19-B5FF-7AACB15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5B0012-4663-4254-A2BA-08E3A79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A582A0-51B0-4BE7-9B96-764DD17E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3DB528-5523-4E00-B644-28DB851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9E81DE-5A32-46DC-B4E3-382D1F1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47A99A-7469-4EC0-994E-2218592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4C6197-B426-48B9-A79A-CE69ECE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562DCA-3A01-45FD-9A8A-DAA2836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858F94-74DC-40F3-9008-B82F5D50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008A34-5175-4628-B1BF-0F28D91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41EFDF-358E-4DA4-8FAF-5A98125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B71-D29C-468A-967E-35331C8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3C0AD5-0C0F-46B8-A183-10971E55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4AC6-AD79-495D-A951-6A78595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C63-4150-4A84-A4E3-87037750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08C-8AE5-41DE-A78E-8775A95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3165-7375-4390-89A5-7E47C28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5B4B-5136-4379-B7FA-C9399F7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C70-806F-4BF6-A0CA-2ABC3ABA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FA9-E166-479B-B53A-DBBAA4FF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F10B-D14C-4373-B96E-791A4A41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A85E-B521-4EFB-98D8-46D1C12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1D1B-A5A5-41A9-B6D5-BE0F34D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A9A8-A334-4787-8A38-7E37DF1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EF4F-8AC1-4EB5-BC18-A74ECA2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2F9-61AE-483B-B116-A8C6AB4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77D1-60E7-4D07-91C0-BD2CBC9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0B76-58E2-44AA-8622-25C9ECA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DCEA-CCA5-4466-95E4-A1D0695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FC98-A133-41F8-8891-5F9801E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509F-0A9D-4C32-A776-13CB43D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6300-8FE3-4D78-AE76-7189C5DB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D9DF-7EE1-491D-A64F-E58073B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006-0D22-4475-9149-215399CC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66D8D-835F-450B-B9E3-F09E4DE7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E1D-95ED-4983-BF84-55E8AAF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22387-CE98-45D5-BF67-AF7C8561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B958C-F388-4BA3-9AD4-B4B5E68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E3874-7DE9-4D3E-9125-EBB4F2D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9D03F-1308-4379-B2C6-C1FECD9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D3556-19EA-49D9-BFA8-9ED9BC1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58B76-9E2C-45B2-A17C-4277864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2DA89-974B-43C5-BD88-C36E288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444CF-432A-4931-9695-455E179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37DE3-6F4A-4E5E-BCCA-5BEB2D7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FA2D7-9841-4509-AF72-C7BE0DEA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33D-BB7A-4A9E-A441-A8845CF6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6E8B8-92E3-47E4-BC55-00437235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34E62-985F-4F8F-9EAD-84E91A1F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DEA32-F95D-4256-9CAE-23C8094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5752C-5605-420E-BCEF-0CE0AC1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79C43-F059-4449-9437-B1FC09A4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6F3D5-F701-4295-92BF-2A91C4F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9AF67-3632-42B2-A6A9-8BF8A9F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37403-B6ED-4342-93A2-DC99109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4B6A5-EED3-40F5-B809-4B1C3F5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C518F-1028-4F21-9F01-4EEE074D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F10-3E56-480F-8220-43C745FD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F0D27-64BA-4B27-B5EF-5049F37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E8014-90C0-4CF7-9222-C99EA518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39468-026A-4D8A-8E18-698B6E50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36B41-0A8C-43E5-90D8-C13DDC50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B7C4B-514A-4E23-AC97-F7B545C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45DA1-5DD3-444D-8665-60CB24F9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733A2-43E5-4F9E-8BF1-E1A9C83D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88CAA-4934-4C4B-9D3B-99E344CD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A85A3-987B-4108-BF3E-AF9E01A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1C7D0-3E2A-4DDD-999E-966AA13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EAB-65FA-4072-BA01-8CF7A04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9B71A-3448-43A0-80B4-76984CC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28C99-610C-4459-B470-C71D8FD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30977-D372-4D2E-98BB-76CEA18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6069D-6054-4F36-9C89-331A658C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B1F0E-768D-4F43-AC5F-065B8877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42C893-06E9-4558-8B87-1693C123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02EF6-1B7A-4FCC-83C2-F819707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72919-ECB9-4817-85FC-8D700E3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D4D43-8D7C-48DE-B1EC-463D97C2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CA045-2CE1-4E30-9A6B-2E4065F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A99-583D-427D-938D-3320E55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49027-3745-4810-A7B4-26E786D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3CE654-80D5-48E6-806C-84BF8DD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E0EF0E-EF0E-43F2-A39D-08DEC9A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BEA58-6D9C-4F2D-86CC-71DC690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162BB-9F74-44D8-B9E8-BFB7BBC0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B0891-26A2-4BF3-A011-18A1E86C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7AEB2-F0D7-47CB-89BD-6096011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5D562-3CB5-44B3-8F61-27BF23D8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29EC4-A07C-4BCB-8927-CD037EC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2A49E-62FF-4E5E-B531-9F2728AF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A5751-511C-4D49-8761-FACA31BAD0B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66345-924F-462A-8D5C-3918D89F4D3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0F78F-F382-4065-B3EA-89C530EABC0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89298-9E82-47FB-9F2C-2EA5258FF31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6AB7A-E031-4BD7-B952-74407041F6E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37AE2-C926-4602-9531-83F9AE74A70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901D-26EF-4E22-A134-AC0C50E606F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D2C0C-32C5-470A-AAAE-6E14DB4ABAB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6ABAC-0713-4617-BC2F-B4F1C57E3A0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0974-072E-4E31-B69B-849B6E787CE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60362-8E99-4861-94B6-9D346EF5220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D6E0D-BEF1-47A6-891F-55843DCA7B5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E16F1-413F-4D8B-BE34-64432C5D676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255CF-D99A-46E8-8C2D-D02A2477FD2D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CCA96-EE3B-407D-A405-FFF60AFCF41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B3B2B-934B-488F-BE23-5FE3138DBDA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E0E8-2163-4511-8D9B-952E399B4C3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C057A-20C1-498D-BC1A-461742ABD8E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D030-B76B-4292-9384-7E476D7E2C8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8445A-37D7-45F0-8902-470ACE467EC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84CAF-80CD-4D5F-8B1F-DCA14377A81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29205-C165-46BA-92B4-A7F9F2CB4E4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54A2D-1DB6-4A5D-88B4-B3DDA040324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3B923-C488-4170-AD8C-D2064CB4DD9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0B45D-26BA-4572-AD9E-E87D6905683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A1D43-7EAD-4ACA-A0B4-FA67B503316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EED73-8E48-4041-A7EF-8ED53951BF0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A63B4-31CB-432D-B0F4-866C4D61A75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37A56-6898-4F31-8B6B-E786BFEA218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Maslow’s Hierarchy of Needs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Mr. Rush/ Mr. Farrell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Lis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st the 10  things you </a:t>
            </a:r>
            <a:r>
              <a:rPr b="0" lang="en-US" sz="2400" spc="-1" strike="noStrike">
                <a:solidFill>
                  <a:srgbClr val="3366ff"/>
                </a:solidFill>
                <a:latin typeface="Calisto MT"/>
              </a:rPr>
              <a:t>need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lif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st 3 things you </a:t>
            </a:r>
            <a:r>
              <a:rPr b="0" lang="en-US" sz="2400" spc="-1" strike="noStrike">
                <a:solidFill>
                  <a:srgbClr val="ff0000"/>
                </a:solidFill>
                <a:latin typeface="Calisto MT"/>
              </a:rPr>
              <a:t>wa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life.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at categories would you create to organize these </a:t>
            </a:r>
            <a:r>
              <a:rPr b="0" lang="en-US" sz="2400" spc="-1" strike="noStrike">
                <a:solidFill>
                  <a:srgbClr val="3366ff"/>
                </a:solidFill>
                <a:latin typeface="Calisto MT"/>
              </a:rPr>
              <a:t>need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sto MT"/>
              </a:rPr>
              <a:t>want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3144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3144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Discuss our own needs and want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Intro Maslow’s hierarchy of need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Create your own Hierarchy of Needs for Yourself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Rate Ishmael Beah on your own Hierarchy of Need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HW: Read Chapter 11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4460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Objectives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94460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alyze the results of political, economic, and social oppression and the violation of human rights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Intro: Maslow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orldproblemsshroderwikispaces.com/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at did you learn about Maslow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Create your own Hierarchy of Needs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reate your own hierarchy of need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iscu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How does Ishmael Beah fit on the hierarchy of need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20:52:38Z</dcterms:created>
  <dc:creator>Craig Rush</dc:creator>
  <dc:description/>
  <dc:language>en-US</dc:language>
  <cp:lastModifiedBy>Craig Rush</cp:lastModifiedBy>
  <dcterms:modified xsi:type="dcterms:W3CDTF">2011-01-23T21:11:44Z</dcterms:modified>
  <cp:revision>2</cp:revision>
  <dc:subject/>
  <dc:title>Maslow’s Hierarchy of Needs</dc:title>
</cp:coreProperties>
</file>